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747-F94E-46E0-9B4C-48E50609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2A6-68E9-4C84-AEBC-1CF8A3F9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43E-B46F-4427-A74F-33B9D9C1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BB1-0F23-4897-94D3-94AF1986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69D1-7D29-4307-BEC3-7366D8DD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E1D1-74DE-4A1F-AA82-D26714AC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E41B-B8B0-45DD-A6EA-1C43D082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7600-7566-41B6-8A97-AB2E118E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8AB2-B910-4E9E-9AC3-7AF8D77F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C3A8-CAC4-4335-8B54-37EDA7DE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2885-BB4D-44D8-BB60-CAC04DFE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17F-8645-48AD-935A-E4807E26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8552-0A90-46A9-B506-3AE39F99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81B7-687F-4852-BED8-BB1491E7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90D8-60D1-4608-808D-9A5E6AC6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241F-40E7-4FBD-8C71-43C2D89C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9938-FC30-43C2-970F-C6326CD7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C85-A7A0-4558-BCE0-DEE13DDF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4C8-B248-4085-A0D8-2633838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A90-85A6-415F-9035-35FB71D8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647-80F8-4226-807A-8D3CB1A9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8D0-9942-4736-AD87-A20EFEA5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82E-65AA-4F41-B109-9DCDC0BD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4DC-99DF-4009-B0FE-F63D19F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253A-5961-4E6C-95D4-F455EA837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7693-8997-4D2D-A154-7B93F0B4D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waiisenergyfuture.com/Articles/Garbage_To_Energy.html" TargetMode="External"/><Relationship Id="rId3" Type="http://schemas.openxmlformats.org/officeDocument/2006/relationships/hyperlink" Target="http://starbulletin.com/2006/02/16/news/story01.html" TargetMode="External"/><Relationship Id="rId4" Type="http://schemas.openxmlformats.org/officeDocument/2006/relationships/hyperlink" Target="http://www.hawaiisenergyfuture.com/Articles/Garbage_To_Energy.html" TargetMode="External"/><Relationship Id="rId5" Type="http://schemas.openxmlformats.org/officeDocument/2006/relationships/hyperlink" Target="http://starbulletin.com/2006/02/16/news/story01.html" TargetMode="External"/><Relationship Id="rId6" Type="http://schemas.openxmlformats.org/officeDocument/2006/relationships/hyperlink" Target="http://starbulletin.com/2004/11/14/news/story2.html" TargetMode="External"/><Relationship Id="rId7" Type="http://schemas.openxmlformats.org/officeDocument/2006/relationships/hyperlink" Target="http://www.honoluluhpower.com/About.asp" TargetMode="External"/><Relationship Id="rId8" Type="http://schemas.openxmlformats.org/officeDocument/2006/relationships/hyperlink" Target="http://www.honoluluhpower.com/About.asp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startech.net/photoPages/pic6.htm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sa.gov/centers/goddard/news/topstory/2003/0508landfill.html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Converting Garbage Into Usabl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4343400"/>
            <a:ext cx="701028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amantha Lee, Chris Han, &amp; Michelle J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ile of Garbage to Pile of Cash?”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ci-Tech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3 July 2005.  CBS News.  20 March 2007.  http://www.cbsnews.com/stories/2005/07/13/tech/main708741.s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aham-Rowe, Duncan.  “Making the Best of Garbage Gas.”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he World’s No.1 Science and Technology News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March 2005.  20 March 2007.  http://www.newscientist.com/article.ns?id=dn704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n, Daniela.  “Converting Trash Gas into Energy Gold.” 5 March 2006. CNN. 20 March 2007. http://www.cnn.com/2006/TECH/05/05/landfill.gas/index.html?section=cnn_lat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SA Warms Up to Maryland’s Trash.”  8 May 2003.  NASA. 20 March 2007.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www.nasa.gov/centers/goddard/news/topstory/2003/0508landf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http://www.popsci.com/popsci/science/873aae7bf86c0110vgnvcm1000004eecbccdrcrd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http://www.hawaiisenergyfuture.com/Articles/Garbage_To_Energ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http://starbulletin.com/2006/02/16/news/story01.htm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waimanalo Gulch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fill cl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http://starbulletin.com/2004/11/14/news/story2.htm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Debate for new landfill 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www.honoluluhpower.com/About.as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Incinerator 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envhonolulu.org/solid_waste/archive/How_our_City_manages_our_waste.html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 where our trash go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71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Currently…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4497120"/>
            <a:ext cx="8613720" cy="2360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ollect approximately 1.76 million tons of trash each year from the island of Oa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two landfills on the island – Nanakuli &amp; Waimanalo Gul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rash is recycled in some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5181840" cy="32130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H-Power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/when/why: A program devised since the 1987 to help Oahu reduce its trash and dependency on o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/how? Reduces the volume of trash by 90% &amp; produces 7% of the islands electricity through combustion in water-cooled furnaces at over 18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83120" y="1933560"/>
            <a:ext cx="3524400" cy="1619280"/>
          </a:xfrm>
          <a:prstGeom prst="rect">
            <a:avLst/>
          </a:prstGeom>
          <a:ln w="76320">
            <a:solidFill>
              <a:srgbClr val="333333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048120" cy="1930320"/>
          </a:xfrm>
          <a:prstGeom prst="rect">
            <a:avLst/>
          </a:prstGeom>
          <a:ln w="76320">
            <a:solidFill>
              <a:srgbClr val="333333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The Issue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manalo Gulch is closing on Ma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different interests &amp; ideas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erra club (Recycling curb bill)/Ko Olina resort (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p off island / Increase H-power / Choose a new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art"/>
          <p:cNvPicPr/>
          <p:nvPr/>
        </p:nvPicPr>
        <p:blipFill>
          <a:blip r:embed="rId2"/>
          <a:stretch/>
        </p:blipFill>
        <p:spPr>
          <a:xfrm>
            <a:off x="685800" y="1295280"/>
            <a:ext cx="3728880" cy="533412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Plasma Conver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4226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: Joseph Lo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stol, Connecti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sma gasification-30,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plasma disintegrates t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s obsidian-like glass and “syng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s of energy: usable fuel and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343400" cy="2892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886200" y="5073480"/>
            <a:ext cx="541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http://www.popsci.com/popsci/science/873aae7bf86c0110vgnvcm1000004eecbccdrcrd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Facts About Plasma Conver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3809880"/>
            <a:ext cx="8541000" cy="3276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: $25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,000 tons of waste da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s 1,000,000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sell “syngas” and surplus 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more tipping fee for landfill ($35 per t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moke, ash, or 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657600" cy="243828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  <p:pic>
        <p:nvPicPr>
          <p:cNvPr id="1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447920"/>
            <a:ext cx="2743200" cy="20574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352680" cy="22352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238880" y="4495680"/>
            <a:ext cx="1487520" cy="19814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057400" cy="15429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33520" y="1828800"/>
            <a:ext cx="4724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mericans produce about 4.5 pounds of garbage per person each da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0% of America’s waste is put into landfi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 landfills contribute a third of all methane emissions worldw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thane is 20 times stronger than carbon dioxide as a greenhouse g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s of 2005, 396 landfills collected methane gas for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ndfill gas is about 50% metha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5320" y="1980720"/>
            <a:ext cx="4040280" cy="441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thane is made when garbage decomposes without oxy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tracted by the pipes or wells in the landfi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oes to a purification plant to filter out small particles and water (water-less gas is easier to transport and bur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fter purification gas is sent to wherever it is us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s is burned to make steam to turn turbines, making electric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139760" cy="1752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2361960" cy="15397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3533760" cy="1995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438280" y="3352680"/>
            <a:ext cx="1600200" cy="10540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3" name="" descr="story.converter.jpg"/>
          <p:cNvPicPr/>
          <p:nvPr/>
        </p:nvPicPr>
        <p:blipFill>
          <a:blip r:embed="rId6"/>
          <a:stretch/>
        </p:blipFill>
        <p:spPr>
          <a:xfrm>
            <a:off x="1981080" y="1523880"/>
            <a:ext cx="2095560" cy="160020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Advantages &amp; Disadvantag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39920" cy="441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al is still cheap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uilding pipelines to carry methane is expens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king away the gas controls odor problems for resid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ing methane reduces greenhouse gas, helps the ozone (examples: NASA, Interface Flooring, Waverl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Photo of Landfill Gas Processing Plant, Sandy Hill Landfill in Bowie, M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905120"/>
            <a:ext cx="3305160" cy="22669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600200" y="5105520"/>
            <a:ext cx="1438200" cy="138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648320" y="4495680"/>
            <a:ext cx="3429000" cy="1868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mi Chang</cp:lastModifiedBy>
  <dcterms:modified xsi:type="dcterms:W3CDTF">2007-04-04T07:28:06Z</dcterms:modified>
  <cp:revision>37</cp:revision>
  <dc:subject/>
  <dc:title>Currently…</dc:title>
</cp:coreProperties>
</file>